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16F1-3269-44C3-8197-B5F6C5AF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970A-7BE0-4FA3-B9E2-C536BBDD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37AE-71EA-4F1B-9B70-5CF3F47B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D2C7-0612-4999-98F8-0C5B115F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AD55-7893-48DD-A4D6-FD571394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58B-8058-4663-8722-D404818A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5A8A-91E6-40D5-8689-79243A6B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C267-80BF-436C-8FD5-1CE7E619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7772-8620-4D48-B13C-D6CBEB16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AC44-04FB-4C68-8B0C-E2B94725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A88A-8B7E-41B9-9F8E-03D6B833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C741-D5F7-4802-81AD-7564B5FA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3912-1845-4C2F-9755-8B910864F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your cod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ree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your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your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your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each of these columns, write how you would do each of the following in that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someone that they have offended you and you no longer would like to associate with th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for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permission to do something they might consider od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ince someone to do you a fav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50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upon your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fferences do you see between the answe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ust you consider when speaking to each group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the differences between the answers mean about the way you communicat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is apply to your pap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the way you talk, and then there is the way you wri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develop an authorial vo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…in wri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1:28:11Z</dcterms:created>
  <dc:creator>Administrator</dc:creator>
  <dc:description/>
  <dc:language>en-US</dc:language>
  <cp:lastModifiedBy>Administrator</cp:lastModifiedBy>
  <dcterms:modified xsi:type="dcterms:W3CDTF">2010-10-21T14:32:57Z</dcterms:modified>
  <cp:revision>8</cp:revision>
  <dc:subject/>
  <dc:title>Slide 1</dc:title>
</cp:coreProperties>
</file>